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D5C-6453-496C-A06C-7BB6CC4F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196-53AD-479C-9177-12D24AE9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ECF06-6028-4DFD-8D25-DF068B7B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36E1C-5041-4D24-95D1-E76B4876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C460B-78BB-4544-A782-11FE91B9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7DD13-AD48-434D-BBDB-C2EC32AB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BA248-B8E1-4588-89FC-3E7A6AA3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4116A-6814-4080-A966-413CCDEB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0A20F-AA0C-4AD4-88F2-0EA4E221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F6794-2968-4C8B-9E3B-E7F5F3E1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22F85-82C4-4843-A07C-149878BE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B76-C434-4B24-973D-8999EB76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0B7-0284-4B75-9517-6D450690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5609-1F89-488C-94ED-C65CC133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F4A4-B600-4021-927F-21BB89EC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85E9-1B96-40EE-97FF-ED4F57DA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2CD5-883C-4888-A9CF-94535606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4F2C-C75B-4FC9-A208-DF536DAA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E1F0-06C3-4AA3-937E-C6792E7A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523B-0E22-4E02-A894-B51DB178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F33-0429-492E-A3D5-B67DD3FC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411E-92B4-4ADF-9CC0-0820130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7739-43A0-4E6F-BAD0-C8389E16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3A70-6E8A-4F2E-8AD3-0A4433E4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8810-42D5-4C63-AE76-E1D1A01F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DC3D-19BE-40D7-B8E1-30FA6077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57EB-6173-47FB-8CE6-4A70E21B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EDC3-C608-4BF4-870C-624701CE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61CA-6DCC-4486-8530-91E04BA5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5828-179E-4DF3-B3C0-3A591195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FCDB-DFA6-4C8A-9BC5-8D892980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0DA-9D65-4E73-AEC1-1778E79E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DE4D-C982-4003-9B4C-319C41A7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7BE3-2E68-4CF3-970C-F89D73B9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C14F-0AA4-4CE3-AC07-188C768F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BC6E-939A-4EF7-9DE8-E3A2D0B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0C99C-0071-41F4-8C63-1068B48D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154F1-5823-4BAF-984F-27D91011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B746-2636-4F94-98C4-418ACF2D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7F6B-A209-4F27-BC1E-C03FC5D5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29E3-F241-476C-8FA8-71DFE88C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4EB3D-23E1-4EAA-9D42-249BE5B8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257-E699-42FC-9A27-85170EF4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B19C-76F6-422B-B877-ACA38E01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1CC4-8972-425E-B69D-E12C9E79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288D3-E67E-4712-9ACD-2253333D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58353-CEA7-43EE-88B7-096B8279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FA7FD-8036-4C46-91E1-8275D3E7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F966-CE04-41C5-B537-7D83E1AB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CE8E7-B9BD-4D3F-BE1D-81795A3E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19C9A-DFA9-43F0-913E-FBF67F5B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A550-81DC-40AF-A0A0-966C688C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CB576-01AB-4BED-BA7D-5898768A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3F0-E4A2-453D-9976-A5D2E8DF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25C2D-9C99-4AE4-8C31-7617341B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DBA06-DB22-4959-AAE1-19B698CB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80E1B-C141-4C12-8C23-EBE76E8D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47C6-D156-4579-A7D1-14A0E866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3A341-5F55-44B5-BCD2-2C164742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195FB-3E4C-4164-8888-C783D2DB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78456-AC22-4C1B-ABD4-F4594339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C659E-6725-4145-94E1-3627617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50E7A-5EB6-4D82-AC7E-DFCD09C9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0790D-F072-40E2-BCC1-A45CED84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FB4-9A2D-4C7D-AFFB-6994AFBE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5DF72-4D54-4A36-B830-D3E3C2D5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7610-4C09-44CA-9289-791A9485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2D24F-66F7-48E4-8ED0-39ADFDF2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AF8C3-61FB-4A10-B97C-47272270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74153-DA1E-44ED-9B90-C97D2DEC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A2972-4B3B-412A-9E82-88286C41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C31CE-783E-4F79-986D-B52F28C2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1E819-3783-421B-8A68-A1CB398C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2DAC-E917-4848-8E44-F705E25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95B55-5939-4C02-917F-AAEAB6FF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612-5E73-44E9-8BEE-B9CB756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2745A-17A1-4A7B-A7FB-C4608C14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CAAA9-1D67-4200-B44C-3DC7C6E7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59A06-A765-4491-86B0-946A6FA7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3229C-EF10-40A8-B413-38C2AA2F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58B9F-8ED4-4E37-9B8F-DE418452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1CF16-35E6-4001-B3C7-23083626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DA0B8-5C0C-45DF-A50E-71D9EA48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FBAE6-DDAB-4450-85B5-613B4523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09918-9386-42AA-AB3C-95E16CEC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98FBD-D6DA-445D-8905-7318A7BF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EDD-0209-40B8-B65F-F4BD774A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4DC26-2F87-4DCF-8CE3-4E1953C0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3BDB8-89A6-429B-A47D-8B80F327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BAD7A-9089-4785-BAE7-63699910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05BB1-6336-4336-B891-74D8D83E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1378C-9C3E-4446-92DB-7C5D23A0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E8094-BA77-4B7F-BCB2-86425088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FC670-A441-4181-804D-17DA37D9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FE4B2-6E3C-4886-BBB3-235EC516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2EE14-8B0F-4524-BF7B-2230B1B1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63BCA-E02A-4411-B55B-EB41677B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302-76E1-4F4B-A777-B1DA1C80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C7913-5B7D-46CB-AB6A-6858BEFF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99B83-76BD-4A40-9D02-A3282BAD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1143C-F057-4036-962F-AC99B48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78500-485D-41E7-98D6-E2369E10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852E2-9446-46E7-A173-91A909B4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C6F5A-6F4B-4B32-9F7D-DDBE98FC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F0BA9-AED1-4E46-8321-9474A5ED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52964-94B1-42C5-A542-354AF7DD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3EB7E-5E93-4E10-9D8A-C9978E31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8C49C-045E-4D91-B968-A8D6AA60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D88F-5A2F-44AD-99FA-0DE04364B19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A4D-75CE-4B12-AD37-247147316D3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DE21-0E94-4DDA-8404-0068E48E12C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11C7-2FCB-4DBA-BA88-5B5A6337B87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FF4F-F8D7-4551-AD9C-5E4B73A4E0A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A840-2D00-423A-8149-9E7B1F7C0C7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1EA6-BD05-4F36-89DC-CCA85AC69C4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CDC3-7DB5-4E64-BE91-C6D59C061D8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5015-EBDA-4C9F-84B8-5E4957FB94A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378000" y="895320"/>
            <a:ext cx="8467560" cy="1689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Carnel Grace Ilustic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33200" y="774720"/>
            <a:ext cx="886464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60480" y="530280"/>
            <a:ext cx="88642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60480" y="1047600"/>
            <a:ext cx="8943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60480" y="371520"/>
            <a:ext cx="911376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60480" y="530280"/>
            <a:ext cx="88642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60480" y="774720"/>
            <a:ext cx="90532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33200" y="695160"/>
            <a:ext cx="89982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285840" y="450720"/>
            <a:ext cx="89866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33200" y="1427040"/>
            <a:ext cx="90172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60480" y="603360"/>
            <a:ext cx="91026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60480" y="450720"/>
            <a:ext cx="89312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23:33:59Z</dcterms:created>
  <dc:creator>personal</dc:creator>
  <dc:description/>
  <dc:language>en-US</dc:language>
  <cp:lastModifiedBy>Cobillo</cp:lastModifiedBy>
  <dcterms:modified xsi:type="dcterms:W3CDTF">2012-03-25T01:33:08Z</dcterms:modified>
  <cp:revision>33</cp:revision>
  <dc:subject/>
  <dc:title>EDUCATIONAL TERM</dc:title>
</cp:coreProperties>
</file>